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E4D-5FDB-49B5-993A-EED7B0C2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3F8-9CCB-4914-91D6-83CBC174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D4A-C17C-45AD-B715-81D3A465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B77-DF9E-455D-A857-34B75C23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04B3-DDA7-47D4-A0B4-70D6150B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970-C823-4065-842A-5AB1D670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AF7-A5FF-4BA0-A48D-2A0E00BD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D47-70C4-4E70-AC4E-9A37D277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2C4-E9E8-440A-83B8-1E8D4A6A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672-B51E-42E8-9DDC-FCBEA249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E09-D4C6-46DD-9F19-3FF2C2EF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9E2-4FB7-4CB2-B521-EEED07CD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74C6-1502-464D-9879-7F29759AD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erOS v5 wireless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dis Cernevs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can using the D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8720" y="1415880"/>
            <a:ext cx="7488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D f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signal LEDs supported added for RB400 series, RB711, RB SXT and RB Gro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ED - on, if wireless client is connected to AP (usually &gt;= -89dB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LEDs - on, if signal strength &gt;= -82dB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LEDs - on, if signal strength &gt;= -75dB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LEDs - on, if signal strength &gt;= -68dB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LEDs - on, if signal strength &gt;= -61d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LEDs on RB SXT and RB Groo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v2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ary wireless protocol developed by Mikro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DMA (Time Division Multiple Access) media access techn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on Atheros chipset c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5413 and newer chipset cards (R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chipset cards (R52n,R52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from RouterOS v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v2 TCP routing both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16000" y="1255680"/>
            <a:ext cx="70563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9380 chipset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1238400"/>
            <a:ext cx="777708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-bridge f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de provides support for transparent protocol-independent L2 bridging on stati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ode is MikroTik proprietary and can't be used to connect other bran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OS accepts clients with "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on-brid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mode if 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dge-m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parameter is enabled in the AP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OS v5.0rc11 or newer needed on AP and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station modes application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322800"/>
                <a:gridCol w="1079280"/>
                <a:gridCol w="1657440"/>
                <a:gridCol w="1150920"/>
                <a:gridCol w="101916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 802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tr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-w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-pseudobri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-pseudobridge-cl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-bri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-protocol set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855720"/>
          <a:ext cx="8642160" cy="5748120"/>
        </p:xfrm>
        <a:graphic>
          <a:graphicData uri="http://schemas.openxmlformats.org/drawingml/2006/table">
            <a:tbl>
              <a:tblPr/>
              <a:tblGrid>
                <a:gridCol w="1441440"/>
                <a:gridCol w="2374920"/>
                <a:gridCol w="4825800"/>
              </a:tblGrid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pec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streme or 802.11 network based on old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tre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 to nstreme or 802.11 network based on old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tre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 as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pec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for all matching networks, no matter what protocol, connect using protocol of chosen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802.11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 to 802.11 networks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streme net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 to Nstreme networks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v2 net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 to Nv2 networks 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2-nstreme-8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v2 networ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for Nv2 networks, if suitable network found - connect, otherwise scan for Nstreme networks, if suitable network found - connect, otherwise scan for 802.11 network and if suitable network found - conn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v2-ns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ish Nv2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for Nv2 networks, if suitable network found - connect, otherwise scan for Nstreme networks and if suitable network found - conn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 reading for each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671640" cy="4032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7280" y="1628280"/>
            <a:ext cx="48974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-strength” - combination of all active chains on the control and extension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gnal-strenght-ch0" - chain 0 control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gnal-strenght-ch1" - chain 1 control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signal-strenght-ch2" - chain 2 control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parate signal readings for extension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x chains signal readings currently available only for N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-offset f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offset feature is designed for easier frequency selection on wireless cards with built-in frequency conve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2467080"/>
            <a:ext cx="518472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nna-mode selection for RB751U and RB751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B 751U and RB751G has 3 built-in wireless anten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n0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ntenna for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ntenna for 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n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ntenna for TX/R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antenna connected to MMCX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enabling the external antenna disables the Chain1 built-in ant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nna-mode selection for RB751U and RB751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can/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out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theros Merlin 802.11n chipset wireless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span depending on c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ghz: 4790-6085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ghz: 2182-2549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n with 10mhz frequency increments for improved data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7:13:09Z</dcterms:created>
  <dc:creator>rf</dc:creator>
  <dc:description/>
  <dc:language>en-US</dc:language>
  <cp:lastModifiedBy>rf</cp:lastModifiedBy>
  <dcterms:modified xsi:type="dcterms:W3CDTF">2011-03-09T10:47:00Z</dcterms:modified>
  <cp:revision>17</cp:revision>
  <dc:subject/>
  <dc:title>RouterOS v5 wireless features</dc:title>
</cp:coreProperties>
</file>