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8CE-A369-4483-AA19-4AC16DD2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F10-D1C0-4892-8DDE-AE333BF1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3E7-19C1-4FA9-ADBD-D510A77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DF0-9646-4A3E-AFCD-81BB6879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7B9-173E-4AC9-AF0D-A6DCB5CC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BF0-6D79-43F7-A592-5BD5E344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C10-0598-4407-99EE-DE4147FC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62A-F421-449C-8F29-01A00421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25B-7FFF-467B-A5F7-57F529E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AD6-A30B-448A-B271-10EC5DF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5BC-2C5A-457F-B6A9-8F0CA57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533-4DDC-4F0F-8F67-CC74FCD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954-BD08-424B-8B8B-EF2819FD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rOS v5 wireles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dis Cernevs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can using the D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720" y="1415880"/>
            <a:ext cx="7488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D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signal LEDs supported added for RB400 series, RB711, RB SXT and RB Gro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ED - on, if wireless client is connected to AP (usually &gt;= -89dB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LEDs - on, if signal strength &gt;= -82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LEDs - on, if signal strength &gt;= -75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Ds - on, if signal strength &gt;= -68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LEDs - on, if signal strength &gt;= -61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LEDs on RB SXT and RB Gro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v2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ry wireless protocol developed by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DMA (Time Division Multiple Access) media access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Atheros chipset c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5413 and newer chipset cards (R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hipset cards (R52n,R52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from RouterOS v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v2 TCP routing bot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255680"/>
            <a:ext cx="7056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9380 chipset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238400"/>
            <a:ext cx="7777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-bridge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e provides support for transparent protocol-independent L2 bridging on sta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e is MikroTik proprietary and can't be used to connect other bran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OS accepts clients with 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on-brid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mode if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-m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parameter is enabled in the AP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OS v5.0rc11 or newer needed on AP and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station modes application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1079280"/>
                <a:gridCol w="1657440"/>
                <a:gridCol w="1150920"/>
                <a:gridCol w="101916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 802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w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pseudob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pseudobridge-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b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-protocol set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855720"/>
          <a:ext cx="8642160" cy="5748120"/>
        </p:xfrm>
        <a:graphic>
          <a:graphicData uri="http://schemas.openxmlformats.org/drawingml/2006/table">
            <a:tbl>
              <a:tblPr/>
              <a:tblGrid>
                <a:gridCol w="1441440"/>
                <a:gridCol w="2374920"/>
                <a:gridCol w="48258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pec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streme or 802.11 network based on old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streme or 802.11 network based on old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pec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all matching networks, no matter what protocol, connect using protocol of chosen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802.11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802.11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streme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streme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v2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-nstreme-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Nv2 networks, if suitable network found - connect, otherwise scan for Nstreme networks, if suitable network found - connect, otherwise scan for 802.11 network and if suitable network found - conn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-ns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Nv2 networks, if suitable network found - connect, otherwise scan for Nstreme networks and if suitable network found - conn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reading for each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671640" cy="4032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8974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-strength” - combination of all active chains on the control and extensio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0" - chain 0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1" - chain 1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2" - chain 2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parate signal readings for extens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chains signal readings currently available only for N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-offset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offset feature is designed for easier frequency selection on wireless cards with built-in frequency conve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nna-mode selection for RB751U and RB751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 751U and RB751G has 3 built-in wireless anten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TX/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antenna connected to MMCX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enabling the external antenna disables the Chain1 built-in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nna-mode selection for RB751U and RB751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can/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theros Merlin 802.11n chipset wireless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span depending on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ghz: 4790-6085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ghz: 2182-2549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 with 10mhz frequency increments for improved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7:13:09Z</dcterms:created>
  <dc:creator>rf</dc:creator>
  <dc:description/>
  <dc:language>en-US</dc:language>
  <cp:lastModifiedBy>rf</cp:lastModifiedBy>
  <dcterms:modified xsi:type="dcterms:W3CDTF">2011-03-09T10:47:00Z</dcterms:modified>
  <cp:revision>17</cp:revision>
  <dc:subject/>
  <dc:title>RouterOS v5 wireless features</dc:title>
</cp:coreProperties>
</file>